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95B-30D3-4217-A971-E4FF244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862-8A4D-4024-998A-89A750EC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33B-C4FE-4DAD-BD45-7662CFDA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8BB-CDB5-4EB9-AFDD-82E8EDA1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C92-999E-4528-908A-BFD12AA8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BE9-8FAE-43D6-AD19-A65C1C0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32D-777F-4938-8EB0-6972893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C3A-91B1-4709-BDBB-7805723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CCF-E7F5-4536-B101-58EAE4C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AEF-EB42-472E-9530-21A63B00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A0B-FD68-4E14-8815-6720CB8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762-8CA1-40D6-BAAA-2D3AA96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DF2E-7CAB-4BE2-BC4F-4A2D933569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237960" y="-225360"/>
            <a:ext cx="9388440" cy="361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0370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come up to the front and get a fact sheet, worskheets, and the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find your seat (name on sticky not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8" descr=""/>
          <p:cNvPicPr/>
          <p:nvPr/>
        </p:nvPicPr>
        <p:blipFill>
          <a:blip r:embed="rId1"/>
          <a:stretch/>
        </p:blipFill>
        <p:spPr>
          <a:xfrm>
            <a:off x="2041560" y="1450800"/>
            <a:ext cx="4932360" cy="1341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4920" y="2849400"/>
            <a:ext cx="86104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enske.wikispaces.com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04920" y="41112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lease take a textbook  from the counter at the back of the 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04920" y="246204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cord your name and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9480" y="529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, Stat &amp; Data Analysis,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530280" y="-208080"/>
            <a:ext cx="7991280" cy="1324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vel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905120" y="152244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ork load (HW, reading boo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vel of mate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09480" y="3240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for future math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09480" y="38498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Show real world applications of con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09480" y="4459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o HW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ad boo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k questions/ get extra help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Rectangle 6" descr=""/>
          <p:cNvPicPr/>
          <p:nvPr/>
        </p:nvPicPr>
        <p:blipFill>
          <a:blip r:embed="rId1"/>
          <a:stretch/>
        </p:blipFill>
        <p:spPr>
          <a:xfrm>
            <a:off x="2541600" y="-189000"/>
            <a:ext cx="3578040" cy="1116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: 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Rectangle 8" descr=""/>
          <p:cNvPicPr/>
          <p:nvPr/>
        </p:nvPicPr>
        <p:blipFill>
          <a:blip r:embed="rId2"/>
          <a:stretch/>
        </p:blipFill>
        <p:spPr>
          <a:xfrm>
            <a:off x="2554200" y="2786040"/>
            <a:ext cx="3005280" cy="111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 we’ve talked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7432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74320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Rectangle 6" descr=""/>
          <p:cNvPicPr/>
          <p:nvPr/>
        </p:nvPicPr>
        <p:blipFill>
          <a:blip r:embed="rId1"/>
          <a:stretch/>
        </p:blipFill>
        <p:spPr>
          <a:xfrm>
            <a:off x="2548080" y="-189000"/>
            <a:ext cx="4151160" cy="111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274320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4016160" cy="111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27432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74320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2743200" y="5181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2743200" y="583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90512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tangle 6" descr=""/>
          <p:cNvPicPr/>
          <p:nvPr/>
        </p:nvPicPr>
        <p:blipFill>
          <a:blip r:embed="rId1"/>
          <a:stretch/>
        </p:blipFill>
        <p:spPr>
          <a:xfrm>
            <a:off x="1768320" y="-18900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1905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ts/sun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3157560" cy="1116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1905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905120" y="4495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905120" y="5181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3 p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8380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exam, PA1, P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Rectangle 6" descr=""/>
          <p:cNvPicPr/>
          <p:nvPr/>
        </p:nvPicPr>
        <p:blipFill>
          <a:blip r:embed="rId1"/>
          <a:stretch/>
        </p:blipFill>
        <p:spPr>
          <a:xfrm>
            <a:off x="-133200" y="6480"/>
            <a:ext cx="949644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in class, MC on Exam days (late Jan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Rectangle 8" descr=""/>
          <p:cNvPicPr/>
          <p:nvPr/>
        </p:nvPicPr>
        <p:blipFill>
          <a:blip r:embed="rId2"/>
          <a:stretch/>
        </p:blipFill>
        <p:spPr>
          <a:xfrm>
            <a:off x="2494080" y="3468600"/>
            <a:ext cx="3784320" cy="1116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838080" y="2859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= 15%, MC = 70% of Final Exam g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5146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51460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pract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5146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91440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# pts. Earned / # pts. pos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9144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W, quizzes, tests, project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tangle 6" descr=""/>
          <p:cNvPicPr/>
          <p:nvPr/>
        </p:nvPicPr>
        <p:blipFill>
          <a:blip r:embed="rId1"/>
          <a:stretch/>
        </p:blipFill>
        <p:spPr>
          <a:xfrm>
            <a:off x="2968560" y="-109440"/>
            <a:ext cx="311472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91440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Rectangle 8" descr=""/>
          <p:cNvPicPr/>
          <p:nvPr/>
        </p:nvPicPr>
        <p:blipFill>
          <a:blip r:embed="rId2"/>
          <a:stretch/>
        </p:blipFill>
        <p:spPr>
          <a:xfrm>
            <a:off x="1359000" y="3468600"/>
            <a:ext cx="6205320" cy="1116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914400" y="2859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rmal grading scal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93% = A, 90% = A-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182880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828800" y="5181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182880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(MC &amp; PA) =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09-08-31T17:45:26Z</dcterms:modified>
  <cp:revision>25</cp:revision>
  <dc:subject/>
  <dc:title>Slide 1</dc:title>
</cp:coreProperties>
</file>